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F2C-1691-45C4-9928-4F909B0E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C2E-D2B5-419C-ACD4-A71CD980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AF8EC-0930-40A4-A09A-C3ABD46D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C31CE-8BFA-4F2B-A3CB-62A3DFCD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C0F07-DC6B-454B-B11E-4925941D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2CE0F-215D-4C12-A536-76FE06E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AD0B4-FE09-412E-B4DD-AEB5105C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978D6-C27D-4DB5-A649-00B463AE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F61ED-68FD-4905-8105-1E85DE23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3210F-8971-436F-B5CE-F26E8C88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F019E-3907-4D36-9295-A9F97C45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5B38F-3409-484A-A859-6FC4F1D7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555-AC7B-4B54-B326-681AE546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2B25D-5461-4853-B10B-1A7FB72D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A7704-7F71-43A0-BC8A-7B3C3CC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97AC6-1247-4121-8BE0-713730B2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EFA1C-53B5-4A97-8571-449119A6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BA08D-7F20-4D07-9BA7-C5D4C648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26E7A-B1D6-469A-8685-F802014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3DBA7-0901-4454-A4CC-93024B8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8B931-9DC7-42FD-8376-6F05975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9D53A-AC9B-4D46-8F45-FCA89FDF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BEC4E-5A09-44C1-BFEA-EEC70054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6F7-1491-4803-ACA0-14A90C5A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4607A-CF04-4566-8DAE-CC06BE56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2AC43-B5A8-4E90-B491-8EE90412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F4363-A26B-4845-B38B-EA6E2D55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3B4DD-0CE0-474E-8AC1-04803435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42676-8E04-49A6-ADF4-394D2491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BFC2F-593B-4DD5-ADAD-C3CDBCB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48FC3-E705-4495-9843-B2AA54B2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44FA3-8B4B-4E28-BC33-A839FECE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5A67D-CF2D-4DFD-BE92-E09882B3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32CFA-4402-4E0E-A82E-98F4700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9950-F4B1-4C99-A548-393AA2A5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45E89-969D-47B1-BAEC-4AA6C2ED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C9035-24B7-4FC7-AEF6-51923D89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AD916-6736-4B1C-82E3-69D9A87D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E206D-BA0D-468B-B9A1-CBEEE4DB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F774E-3F63-442A-AAE3-97D660E8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70ED7-DD49-4F90-8BF8-B298D5DC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F7B0A-E69D-4234-A952-3F1C77DA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C0207-8CE9-411F-BA25-0CA8F616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0A9DB-3560-403B-A307-3B7EDB7B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38F65-713D-4DFE-B25C-30CA56B7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B773-740C-4455-B04E-A66E4B25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13111-2C08-4E55-B93B-57BA2E69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0B677-8959-49C1-A482-BDAC2390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851E8-DBAA-41C4-AF66-58033518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D732E-A857-4198-B3EA-782F2C38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4CE37-17F3-43E4-BB4E-92B91654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BB1B6-E0E9-4DFA-A961-BCA2E570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2C3AF-A517-4138-A7DB-EA029C9A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153EE-3F2E-4411-8EA9-374ADC82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93360-8DA3-4E85-AEE8-CBBE9847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3D3D1-1F32-498A-AB0A-96F244BB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68A9-B52C-40BB-8AF2-8E27CFE8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FA2D3-8F70-458A-9CBB-266D12B7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2D872-F3E9-41F6-A6D4-F64AA27A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C9B3E-9344-46F3-A90E-36B9FFA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FD3A4-2A40-48CA-B802-ABE54572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CBCB5-D727-4E9A-8CC4-7F5BF081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4CE35-E818-4D41-B0C5-34DF7D4F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D029C-27B6-4B69-A72C-28E079A5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7090B-9D84-437D-8F83-9836133B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0E052-4242-49CB-AAA5-A15F41F0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7A8D2-E2A2-423E-857E-4D8B40A2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AC2D-6CC1-4A4F-BBC6-AC1D9BDC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B8227-C5F1-44E3-B37B-37567C90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0681D-110C-40A0-87EB-17C3CCB0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35594-19F3-4E0C-A67E-D0787217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3F28B-4E9B-472E-BAA6-2F2B4B20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F3B97-43A2-4D52-BC13-764A510F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42B57-263A-47A5-B78D-1BA649A3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082FF-C9CB-4DD0-8247-51412AED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0F028-EE5F-4F6D-A6D4-D665D31E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CB40A-F470-4BF5-B9C0-0C95EA12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AA63D-F515-4D62-BAA1-1B2CE339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5793-9880-4C32-B6B0-87A9C769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D6B2A-4627-4686-949D-E2CC7EA3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08112-CAE8-4667-B995-2D739FF7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128E7-87ED-4F77-A1E8-42DD73F1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2E5F0-8C1E-4D06-8572-5C3AD443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0F2F7-857A-4F53-BDDF-163E5418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1695E-1F44-4A37-B070-C8138949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77C23-081D-4FF1-9C31-97823161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3481B-EC18-4F6C-86B7-28A0241C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F2133-9D6D-4308-82ED-25036D89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F4EF2-6953-46F7-9534-C136B0B8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3954-8CDC-423F-8EFD-A4F7D780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4D1C3-1C35-4717-8C66-667C8AB4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F9B4A-1F74-409E-BC94-AC626C97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A9BC6-A380-48ED-8548-70D5C63C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5F277-8F40-4069-B191-7BC72FC2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1870B-45CF-41B0-BB38-40EFB917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50C71-9C28-4DD3-920B-097ABE9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E25DC-19F3-4858-BF93-057DD7F3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64F80-1BB2-448C-B8DF-18055DB9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AC511-5703-44AE-968B-3FE29FF6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5E02B-B126-4EDE-9A2E-01A9A69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F839-1A45-4CA1-84CD-03574F7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5C31C-3226-48A3-9EF0-328D4BFD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5CDE2-FFE9-480F-98DE-FE33CAB9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A0F18-ED34-4E62-B6F1-4A89A208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C5CBC-629E-453C-9B61-18C7D12B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260011-F584-46A2-B437-F988924F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4524F-2F58-43CF-B237-02606E2D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B01BD-22A4-4214-99FB-D78B710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29803-2FC9-4B5B-B669-E0D77551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EC812-15C8-4DCC-980D-E6D1EC4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6A588-F0F0-432B-86C6-9FB2B55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159-CF3D-4C35-ABDF-83CF23F9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5BF5-1725-4E01-80CD-FE893A9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40A36-D44E-43DE-8DB6-A7053B90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ABF68-E33F-42C9-B58B-5A2C56DD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E5107-7C76-4D81-BE4B-6C0247B8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D39B2-62F3-4728-9E3B-DE49F45A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33605-F1F1-4128-8DCC-9441D69D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F5034-90FE-4979-AB36-29F6881A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9326F-9593-459D-BD05-430EFEEB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068F6-9A1E-444C-9E6F-E8C1B57A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D1413-B303-407A-8A27-4BA629C6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03695-39AC-4141-8B0F-FED237BF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27EA-971F-482D-BE5F-F461B7EC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00FB1D-DCC6-43BE-9CFD-C0E1E456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03085F-DEF5-4000-BD1F-094EA62E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FDD69-31DC-47C8-BDF1-A77267F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DE6B23-8FBB-417C-9E42-A80F712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23736-074B-4250-AA61-7618C0C7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7A7481-0388-486C-BE6C-D4779F69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CE3FD-C95F-4D1E-889C-C08BF365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BEE7D-B913-4BAD-B85A-4FF8D2F5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DA685-C7DC-4D7B-A180-3F739235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45381-0198-4AE8-9941-A2B21DB9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DA0A-BD21-492A-8E30-54D0FAAE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4F243-7B0D-409E-8507-FAB8BDEA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D28E5-21B4-4BA2-88B2-F23F528D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63B77-955C-4A1F-8A06-855081F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019DD5-6C29-4469-85DE-1DB76275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87F7F-E865-4D3E-99AD-1039BF00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05D1DF-A11C-4815-83C1-77F8DCFB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DFDCE4-513B-4751-B6D6-A70484A1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E7FA8-6664-4DC5-A7DE-0EDB2879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B18EE-CF65-40AB-84B8-1FB7E05A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94F9A-0613-4AD3-8065-13EF67AB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0FF1-931E-4A40-A844-E1728181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2A8F9-FDCD-4DF3-BFF2-C84F6941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D066F-1E49-445A-A81C-0BAA978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A3BE72-2F10-4503-A629-D63581F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288B0-7B3B-4A95-96FD-D1D103CF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199628-5323-442E-85FC-EE9B8B32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D5FAF-F3C0-4B94-BD3C-0B61AD0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6707C-3580-4B43-BCBC-564E6A3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6276C-EA27-4A4C-B9F6-A2C0AD9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5B488-FC79-49C1-8F6F-98F83D67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095253-9AC1-4040-84F8-D3684E4D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284F-BBA3-466F-97DC-52235B4A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7C6021-96C3-4784-88E0-0C9FA353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A04CA-127B-4BC3-BC6B-33D6C021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E75E0-56FD-4F2E-95C0-848EE7F9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1E275-AF7E-4400-9318-7D17F32B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5EF9DE-CEF4-40FA-B8D3-D46CB264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49962-4E16-45FB-8CB0-4EA56D3A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722B10-1D47-4BA5-B362-0A8A6420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8CA6C-3345-4A85-88F7-1B7D7C8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E651DF-B44D-418D-8C7B-1854C66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2830A-EE16-412E-B9CC-1163EC64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7AA7-19A8-49CE-B658-8A72F551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95E96-6A34-467A-9D69-61D5A1A2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8AC55C-198F-41C2-94DF-E2DC6FEB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608CB-2AEF-4055-B090-564E8E2B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337C-CEBB-4E70-AA8F-EF17E653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BA60-106F-4011-A2F5-996C4473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D69E-85C6-440B-8283-7D979BA3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D1C4-4A8E-4546-8214-53B6B59F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C5A-C35C-4033-8683-4F579549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2456-5AF9-4427-8DA0-023C8174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5ED1B-F494-4299-9927-A26BC429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60EA-38E2-43BC-BB18-5AE7DE2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09E0-EB7F-465F-8E79-49FFA81C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FED9-A6AA-47E5-90DE-80738BFD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EF4C-6E63-4198-8705-89A38483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B45A-A601-40D4-BCBE-7085356F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A4E03-3DE9-4F6A-A32E-D96E573C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F9B69-6E3E-4C9E-A79A-9E84F85E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E8BA-3344-4797-B2AC-C1D92F5D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882-D2D5-435E-848B-1EBF8967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1EE6-66B4-4338-857E-0911EEC5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9F1C-2D49-4589-BB9E-EBBEDB0D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CC3D7-F686-4124-B5EC-F5F0599C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C842-B2A5-4104-A26F-C88CA58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41E2-BD30-4DBF-A0B9-30F8BF43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B88D2-6107-4929-96AD-444A1825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C983-7813-4430-8CD3-D7BB110B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8170-5AD7-404A-94F9-AD79F672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0156-B897-4B8E-85F9-F0D61247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EB69-B4F7-469F-BAD7-03C31062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1BE-97D8-4E30-B4B3-6540AD78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952C-C6BC-4F09-A75C-0F86905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3F233-42C6-4E6B-9CED-CEEC056B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868AA-A78E-4D57-8B52-0CE86723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F7619-A04A-4957-95C2-8CB091C5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95D9E-BFC7-4FC8-8A36-1B7941CB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B6FC1-E302-40EB-812C-CDDBB456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4E15-0448-4BC4-AB94-E671C26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E39BC-5B76-46D3-989D-EE9726CF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401AA-4DBF-469F-9814-DE76C77E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DE092-2A8F-4FDA-8EA9-F58C9974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38A-DD42-4B35-8483-DC038BC9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58766-FA76-4428-90AF-AB1A4D6B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40B1-E36C-48F7-9D2B-1DDECB8F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481CC-4AE8-4A6B-99F7-98C8C9DE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3D52C-B7BB-483D-BE57-42B36CB6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52716-1745-4816-9C77-08FA5366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57BBA-7229-4BD3-AA62-572A6C10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6D46-6EE5-4916-AF31-1DE8C404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4770D-8F75-41AF-ADCD-2D0B887B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1EA12-1480-4BAE-B83A-4EA31044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5AB5A-5150-4E65-A2FA-436B6A5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413-9C08-4B44-B10C-ECB8D81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4F45-3029-4DA4-8AAD-BD41B745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67DA7-EB69-4BFE-9D38-726369CF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F62E1-C25D-456B-8047-68F99FC8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00086-7C39-47B9-A80B-B5A7A81B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92EB-84CA-4613-AE55-FDDA2AC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A507F-766E-44C9-9098-0BB0B942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EA47B-C004-420C-8ECF-CB4BF588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7778A-A950-4D43-A27F-A2442F1F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6D902-7DD4-4803-B82F-0B2B124D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4D65F-A8E0-4C97-8D5E-53186FB4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A0D-F8C2-4C50-8741-76C83606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A6B15-C481-4DB0-8B8D-B685056B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D2DD5-AED5-4CE3-9C45-8AF43081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6F25-4B08-4AF8-889D-2D99C38B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285E6-CEBC-4C7A-BD23-30A4718F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D62E3-A115-47E8-B015-A8CB26A0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653E1-948C-4812-AC82-2DD36ECD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11E05-7400-4212-A20B-44046C7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BCDC6-0EAD-45B5-A7FC-AA8D6BCD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500B3-6567-4756-8D34-5B8DF343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B200C-BBA7-4886-BDF6-D5BDB373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1CD-176B-4FB9-A260-716DF10A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55E08-949C-4672-B3A1-20DD4DF5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C6D4-88FF-4CDE-9C0A-56522233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E72A3-6480-4EB3-8920-85A2B4C2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83D8-C8AC-4B55-A6BE-6AD3B18C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87ED4-A152-4340-9246-501A4D4A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4EE12-A712-4290-81E4-B8DFAE97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BBE11-7AF6-443F-ACCB-4473C66F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3D6CC-BD6C-4B48-86F9-429FD4A5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13902-CB7D-4DFB-87EC-733EFE41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2A176-7EC4-457B-AD4E-25F385DC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A15-24EC-4FF7-91E1-AEA48837A1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F3C9-DD54-40CE-B693-DFF5902C00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755D-FA28-4ADC-9735-2390FB48B6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F9E9-3105-4106-8A91-A907091C0C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040A-FEBD-44BA-8768-26557A4D4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DCE4-A80A-4092-BD15-FB31EE741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E1A4-8090-4F70-B3AB-0653E8235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8208-1896-47F4-8028-59F2114DD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D462-B4F7-4C35-920F-8246AE2CA8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BEC7-000B-4207-ACCF-AB36A41D74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1A15-D8A3-41B4-ADF0-24464FB18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74B6-ED24-4022-A13B-BA780654F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6C21-6CC1-464F-B946-B2D9432CFB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883D-4178-4551-B461-98BA24CDB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49EC-A672-4600-A71D-7AB3AD966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B8C-81E3-4FA8-AB7D-AF4B631C14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2B6C-474F-4BC8-A93C-D379C4F76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E57-44AB-44FA-94DD-F126B62597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1D25-E166-48A7-9FD1-711C3B1379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6FA-84B1-42B7-AFB4-77F976FB6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3426-C802-4572-9BB4-CECB925D6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6B42-EE31-4E74-B7EE-DB0C48322B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F21E-C9CB-44FE-AE78-FF3ABB47AB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9F73-930B-4A48-87E8-54A2DDC3C0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75DC-1617-4BA4-B531-263735804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DD03-2767-4D75-9AF6-2807C8BEA2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5AE7-98C4-4657-8ABB-5E96380628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98F-1CE7-4D51-9B26-BDF169FFB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2E8-7C93-46A6-A6D3-7E7116DF58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7FE9-61B1-4776-A571-6EA884E127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4CCA-70CB-48BB-8551-A7C80FAF18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3398-6D14-465A-B980-DBC3771CA6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09CC-80B3-4C4C-B480-EB8B01780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B62C-5618-4563-8C61-459EAFC941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0245-6A39-405B-A5B7-C36C2EE36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A723-D15A-4B92-BE85-99455EF35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D3BF-31BA-4E7A-A52D-87CF0B14A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46DA-5A63-4802-AD12-AF26D9052B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0CE1-E5D1-4FFF-8F1F-4E70E6A79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5513-155E-4B18-8635-D9360AA5E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33680" y="3176640"/>
            <a:ext cx="40766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547560" y="895320"/>
            <a:ext cx="8048880" cy="506736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733920" cy="193356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3"/>
          <a:stretch/>
        </p:blipFill>
        <p:spPr>
          <a:xfrm>
            <a:off x="4859280" y="4076640"/>
            <a:ext cx="3743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438120" y="792000"/>
            <a:ext cx="8267760" cy="5877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4745160" y="282420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5796000" y="280980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6818400" y="282420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7812000" y="2809800"/>
            <a:ext cx="50508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3348000" y="632304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6732720" y="6308640"/>
            <a:ext cx="50472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8"/>
          <a:stretch/>
        </p:blipFill>
        <p:spPr>
          <a:xfrm>
            <a:off x="4932360" y="6337440"/>
            <a:ext cx="504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3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